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84D-E083-4A0D-8E33-C9D3C892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57E-1630-43CE-85CB-CF29CE33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F76-1565-444D-9C1A-CEFECEDC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3B7-366B-463D-809C-205D4107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3F7-AD7E-41D9-AC97-0F68317D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258-F7F8-4BC9-94BC-5E697A08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294-5435-45DF-9C18-9FA28139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CA5-CFE4-4573-8B2C-ADFA04C5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6BE-2068-4C45-A777-55779E7B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8C7-30AC-4C5A-BC6A-B23A75ED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B75-379A-4000-A5CB-32C8FC6B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641-FEC2-4485-BC4C-35CBA6AD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94D6-3B2C-4AA2-9051-7A90DA86C03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2T10:07:47Z</dcterms:modified>
  <cp:revision>154</cp:revision>
  <dc:subject/>
  <dc:title>Part I. Alphabets, Strings, and Languages</dc:title>
</cp:coreProperties>
</file>